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9544-4F73-4AF2-B440-93A0B029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5B2F-1EB3-47B9-B083-439352C9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9F0B-9F47-4E89-A61D-601A297C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8DEC-F95D-410F-9562-7E4F64C9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F451-2764-4507-9229-5C304E81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F1A9-7A35-483E-AB4C-FFE8F0D6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9002-3E59-4B17-B140-053D27AA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C548-F7DE-4551-A83A-A1FEE53C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6039-D348-45A9-8F71-5349053A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5005-DEDA-49C3-912A-0C8E07F8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AAD8-256A-45BB-8ECF-C9FE2BE5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D9C-A466-4A45-82F4-B207F8A1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F7A8-C837-4919-AA66-34D40BB74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2627280" y="1197000"/>
            <a:ext cx="58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Интергисане академске студије фарм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2775960" y="162864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УТРИТИВНИ СУПЛЕМЕ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889800" y="2133720"/>
            <a:ext cx="1540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ЕЖБА БРОЈ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539640" y="2708280"/>
            <a:ext cx="78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Calibri"/>
              </a:rPr>
              <a:t>Поремећаји секреције и апсорпције воде и минерала у гастроинтестиналном сис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ерапијске смерни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Цереалије садрже угљене хидрате и уз додатак соли, могу бити корисне у терапији дијареј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рални раствори за рехидратацију, паковања мешавине шећера и соли који су драматично смањили смртност у епидемијама колере и других болести са дијарејом у земљама у развој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7236000" y="25560"/>
            <a:ext cx="19080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0000"/>
                </a:solidFill>
                <a:latin typeface="Arial"/>
                <a:ea typeface="Arial"/>
              </a:rPr>
              <a:t>Колера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Резултат слика за cholera"/>
          <p:cNvPicPr/>
          <p:nvPr/>
        </p:nvPicPr>
        <p:blipFill>
          <a:blip r:embed="rId1"/>
          <a:stretch/>
        </p:blipFill>
        <p:spPr>
          <a:xfrm>
            <a:off x="1547640" y="2708280"/>
            <a:ext cx="611532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Кол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413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Колера је тежак облик секреторне дијареје који се често јавља као епидемијска болест удружена са природним катастрофама (када су онемогућени основни хигјенски услов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Заједно са другим секреторним дијарејама (које изазивају бактерије и вируси) колера има висок морбидитет и морталитет, посебно новофорираним и земљама у развој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Резултат слика за cholera"/>
          <p:cNvPicPr/>
          <p:nvPr/>
        </p:nvPicPr>
        <p:blipFill>
          <a:blip r:embed="rId1"/>
          <a:stretch/>
        </p:blipFill>
        <p:spPr>
          <a:xfrm>
            <a:off x="900000" y="3357720"/>
            <a:ext cx="580068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Кол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36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 колеру је карактеристична висока концентрација  cAMP у епителним ћелијама цре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Бацил колере остаје у цревном лумену, али он ствара токсин који се везује за GM-1 ганглиозидни рецептор на апикалној мембрани интестиналних епителних ћелија, па део А-субјединице токсина (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пептид) улази у епителну ћелиј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&amp;Rcy;&amp;iecy;&amp;zcy;&amp;ucy;&amp;lcy;&amp;tcy;&amp;acy;&amp;tcy; &amp;scy;&amp;lcy;&amp;icy;&amp;kcy;&amp;acy; &amp;zcy;&amp;acy; kolera bolest"/>
          <p:cNvPicPr/>
          <p:nvPr/>
        </p:nvPicPr>
        <p:blipFill>
          <a:blip r:embed="rId1"/>
          <a:stretch/>
        </p:blipFill>
        <p:spPr>
          <a:xfrm>
            <a:off x="5076720" y="4005360"/>
            <a:ext cx="24004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Кол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9640" y="15573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пепдид везује аденозин дифосфат рибозу за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субјединицу Gs, инхибишући тако њену GTP-азну активнос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ктивирани G протеин изазива дродужену стимулацију аденил циклазе  и знатно повећаава концентрацију интрацелуларног cAM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&amp;Rcy;&amp;iecy;&amp;zcy;&amp;ucy;&amp;lcy;&amp;tcy;&amp;acy;&amp;tcy; &amp;scy;&amp;lcy;&amp;icy;&amp;kcy;&amp;acy; &amp;zcy;&amp;acy; vibrio cholerae"/>
          <p:cNvPicPr/>
          <p:nvPr/>
        </p:nvPicPr>
        <p:blipFill>
          <a:blip r:embed="rId1"/>
          <a:stretch/>
        </p:blipFill>
        <p:spPr>
          <a:xfrm>
            <a:off x="5076720" y="4508640"/>
            <a:ext cx="3305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Схематски приказ патофизиолошког механизма у коле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Резултат слика за cholerae mechanism"/>
          <p:cNvPicPr/>
          <p:nvPr/>
        </p:nvPicPr>
        <p:blipFill>
          <a:blip r:embed="rId1"/>
          <a:srcRect l="5192" t="8307" r="2388" b="1696"/>
          <a:stretch/>
        </p:blipFill>
        <p:spPr>
          <a:xfrm>
            <a:off x="1116000" y="1773360"/>
            <a:ext cx="6624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Кол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69992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д повећане секреције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смањена је и функција и мукозних NHE транспортера за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па се смањује апсорпција NaC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ао резултат настаје повећање количине воде и електролита у цревима, што доводи до дијареј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K ATP-аза и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глукозни транспортер нису захваћени, тако да се заједничком реапсорпцијом глукозе  и 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превазилази овај поремећај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ерапијске смерни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 колере је углавном симптоматска док се узрочник не докаже, мада се антибиотици понекад одмах корис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јважнији терапијски приступ је да се обезбеде велике количине течности  и електролита (које се губе столицом) да би се спречила дехидратациј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7236000" y="25560"/>
            <a:ext cx="19080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ерапијске смерни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премина столице може да достигне и 20 литара днев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ко постоје стерилни услови, најбоље је да се течност и електролити дају интравенс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Често у епидемијама то није могућ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оже се искористити очувана активност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лукозног котранспортера, која пружа физиолошку основу за надокнаду губитка Na и воде применом оралних раствора који садрже NaCl и глукоз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7236000" y="25560"/>
            <a:ext cx="19080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3:57:51Z</dcterms:created>
  <dc:creator>Maja</dc:creator>
  <dc:description/>
  <dc:language>en-US</dc:language>
  <cp:lastModifiedBy>Vladimir Zivkovic</cp:lastModifiedBy>
  <dcterms:modified xsi:type="dcterms:W3CDTF">2017-02-01T11:27:57Z</dcterms:modified>
  <cp:revision>225</cp:revision>
  <dc:subject/>
  <dc:title>Slide 1</dc:title>
</cp:coreProperties>
</file>